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4D60-2027-4DBE-9E43-85DD661A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FE60-D528-4C37-9132-B3B5B9E8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44BB-F9E4-4EC6-8973-BCFBCBF9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720C-A73A-4C1D-B07B-B9B0AD97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A2E-9E59-43A7-9450-C8CCCEDD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A711-0A64-4275-B733-B6192866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D00B-4EEB-4834-8201-5A2B0552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1B2A-C83F-436C-AD3B-ED7CAEE0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249A-A3B8-41AE-9C72-298E02C8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C813-F352-4BEF-AF80-766E2BA7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5ABA-54CE-4627-82A1-4A1CEEA2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34FD-A41D-411F-827A-B1D6D727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485C-1416-49CC-9BCF-59D68A8C2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"/>
          <a:stretch/>
        </p:blipFill>
        <p:spPr>
          <a:xfrm>
            <a:off x="0" y="-22860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00" y="122400"/>
            <a:ext cx="7677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ell MT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6381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 MT"/>
              </a:rPr>
              <a:t>Brush Ma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"/>
          <a:stretch/>
        </p:blipFill>
        <p:spPr>
          <a:xfrm>
            <a:off x="0" y="-22860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4000" y="122400"/>
            <a:ext cx="7677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ell MT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6381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 MT"/>
              </a:rPr>
              <a:t>Paint Str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"/>
          <a:stretch/>
        </p:blipFill>
        <p:spPr>
          <a:xfrm>
            <a:off x="0" y="-22860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4000" y="122400"/>
            <a:ext cx="7677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ell MT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381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 MT"/>
              </a:rPr>
              <a:t>Dab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"/>
          <a:stretch/>
        </p:blipFill>
        <p:spPr>
          <a:xfrm>
            <a:off x="0" y="-22860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4000" y="122400"/>
            <a:ext cx="7677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ell MT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6381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 MT"/>
              </a:rPr>
              <a:t>Cha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"/>
          <a:stretch/>
        </p:blipFill>
        <p:spPr>
          <a:xfrm>
            <a:off x="0" y="-22860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122400"/>
            <a:ext cx="7677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ell MT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381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 MT"/>
              </a:rPr>
              <a:t>Color Hat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"/>
          <a:stretch/>
        </p:blipFill>
        <p:spPr>
          <a:xfrm>
            <a:off x="0" y="-22860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4000" y="122400"/>
            <a:ext cx="7677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ell MT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6381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 MT"/>
              </a:rPr>
              <a:t>Inlay Mosa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"/>
          <a:stretch/>
        </p:blipFill>
        <p:spPr>
          <a:xfrm>
            <a:off x="0" y="-22860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122400"/>
            <a:ext cx="7677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ell MT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381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 MT"/>
              </a:rPr>
              <a:t>Patch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"/>
          <a:stretch/>
        </p:blipFill>
        <p:spPr>
          <a:xfrm>
            <a:off x="0" y="-228600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122400"/>
            <a:ext cx="7677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ell MT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6381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 MT"/>
              </a:rPr>
              <a:t>Cubic Str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14:47:46Z</dcterms:created>
  <dc:creator>Eyemagine</dc:creator>
  <dc:description/>
  <dc:language>en-US</dc:language>
  <cp:lastModifiedBy>Eyemagine</cp:lastModifiedBy>
  <dcterms:modified xsi:type="dcterms:W3CDTF">2005-01-13T15:42:57Z</dcterms:modified>
  <cp:revision>5</cp:revision>
  <dc:subject/>
  <dc:title>Slide 1</dc:title>
</cp:coreProperties>
</file>